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3BA2-AD1D-4634-A26E-4CAEB4A28E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A09F-2504-4DBB-8C96-60FBC76CB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83018"/>
                </a:gs>
                <a:gs pos="100000">
                  <a:srgbClr val="737f3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483018"/>
                  </a:gs>
                  <a:gs pos="100000">
                    <a:srgbClr val="e3c1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83018"/>
                </a:gs>
                <a:gs pos="100000">
                  <a:srgbClr val="525a2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483018"/>
                    </a:gs>
                    <a:gs pos="100000">
                      <a:srgbClr val="e3c16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C’est à toi! 2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ité 1 – Les fêtes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çon 1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rammaire et Vocabulair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p21-22 Act 23-24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Documents and Settings\Michael\Local Settings\Temporary Internet Files\Content.IE5\2303URME\MC900363570[1].wmf"/>
          <p:cNvPicPr/>
          <p:nvPr/>
        </p:nvPicPr>
        <p:blipFill>
          <a:blip r:embed="rId1"/>
          <a:stretch/>
        </p:blipFill>
        <p:spPr>
          <a:xfrm>
            <a:off x="0" y="3817800"/>
            <a:ext cx="2717640" cy="304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Michael\Local Settings\Temporary Internet Files\Content.IE5\T3QP2G2F\MC900022823[1].wmf"/>
          <p:cNvPicPr/>
          <p:nvPr/>
        </p:nvPicPr>
        <p:blipFill>
          <a:blip r:embed="rId2"/>
          <a:stretch/>
        </p:blipFill>
        <p:spPr>
          <a:xfrm>
            <a:off x="6324480" y="0"/>
            <a:ext cx="3048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2" descr=""/>
          <p:cNvPicPr/>
          <p:nvPr/>
        </p:nvPicPr>
        <p:blipFill>
          <a:blip r:embed="rId1"/>
          <a:stretch/>
        </p:blipFill>
        <p:spPr>
          <a:xfrm>
            <a:off x="0" y="1295280"/>
            <a:ext cx="9036000" cy="5562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Grammaire et Vocabulair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600200" y="49528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ment est-ce que tu nag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1523880" y="571356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ù est-ce que Jean-François va pour acheter des cahier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523880" y="644364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À quelle heure est-ce que nous allons au ciném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0" y="1447920"/>
            <a:ext cx="9202680" cy="3733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Grammaire et Vocabulair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57200" y="1905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À qui est-ce que Bruno télépho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457200" y="278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Où est-ce que tu va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57200" y="3638520"/>
            <a:ext cx="75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vec qui est-ce que Véro va au tabac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457200" y="4532400"/>
            <a:ext cx="75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Quand est-ce que vous faites du sp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0" y="1219320"/>
            <a:ext cx="9194760" cy="5029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Grammaire et Vocabulair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143000" y="327672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Olivier et Zakia, font-ils leurs devoi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1143000" y="412128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riane, parle-t-elle à Jérém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1143000" y="493380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Édouard et Khaled, travaillent-ils au supermarché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1143000" y="575784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Nicole, étudie-t-el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Grammaire et Vocabulair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19" name="Picture 10" descr=""/>
          <p:cNvPicPr/>
          <p:nvPr/>
        </p:nvPicPr>
        <p:blipFill>
          <a:blip r:embed="rId1"/>
          <a:stretch/>
        </p:blipFill>
        <p:spPr>
          <a:xfrm>
            <a:off x="0" y="1447920"/>
            <a:ext cx="9136080" cy="35049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395280" y="182880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ylvie et Isabelle, écoutent-elles leurs C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09680" y="273852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Max, regarde-t-il un film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57200" y="357660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Myriam, cherche-t-elle son cha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457200" y="449100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ïcha et Zohra, jouent-elles au tenn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Windows User</cp:lastModifiedBy>
  <dcterms:modified xsi:type="dcterms:W3CDTF">2011-09-28T13:03:27Z</dcterms:modified>
  <cp:revision>108</cp:revision>
  <dc:subject/>
  <dc:title>Allez, viens! – Level 2</dc:title>
</cp:coreProperties>
</file>